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45E-56B9-431E-B953-CED2578F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C12-7D2A-4215-B19D-0FF5C91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12D-548A-4C51-B7C5-F83DCCF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953-303B-4E6E-9B55-BF24ADB1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4360" y="62064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B5F-310B-4957-ADEF-055DC20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E61-E584-4E28-AC1A-E9E201D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856-8EDC-4BFA-A936-D3DB59A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3B5-63DE-4412-A6D9-E172CB4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4360" y="62064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1C1-6342-4096-A9F5-DD7EE23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B63-39BC-4539-8601-D76F2F2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567-2099-4D46-8795-75FB5A4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5DC-5859-4B1C-A7EC-1E185C6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333360"/>
            <a:ext cx="215640" cy="6524280"/>
            <a:chOff x="179280" y="333360"/>
            <a:chExt cx="215640" cy="6524280"/>
          </a:xfrm>
        </p:grpSpPr>
        <p:sp>
          <p:nvSpPr>
            <p:cNvPr id="1" name="Rectangle 3"/>
            <p:cNvSpPr/>
            <p:nvPr/>
          </p:nvSpPr>
          <p:spPr>
            <a:xfrm flipH="1">
              <a:off x="314280" y="360360"/>
              <a:ext cx="80640" cy="649728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9280" y="333360"/>
              <a:ext cx="81000" cy="627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48360" y="333360"/>
            <a:ext cx="216000" cy="5974200"/>
            <a:chOff x="8748360" y="333360"/>
            <a:chExt cx="216000" cy="59742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890200" y="333360"/>
              <a:ext cx="74160" cy="59040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48360" y="481320"/>
              <a:ext cx="84600" cy="582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395280" y="6452640"/>
            <a:ext cx="8424720" cy="216360"/>
            <a:chOff x="395280" y="6452640"/>
            <a:chExt cx="8424720" cy="21636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571640" y="2275560"/>
              <a:ext cx="71640" cy="8424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481280" y="2510640"/>
              <a:ext cx="72000" cy="82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" name="Group 14"/>
          <p:cNvGrpSpPr/>
          <p:nvPr/>
        </p:nvGrpSpPr>
        <p:grpSpPr>
          <a:xfrm>
            <a:off x="250920" y="189000"/>
            <a:ext cx="8713440" cy="214560"/>
            <a:chOff x="250920" y="189000"/>
            <a:chExt cx="8713440" cy="214560"/>
          </a:xfrm>
        </p:grpSpPr>
        <p:sp>
          <p:nvSpPr>
            <p:cNvPr id="10" name="Rectangle 15"/>
            <p:cNvSpPr/>
            <p:nvPr/>
          </p:nvSpPr>
          <p:spPr>
            <a:xfrm flipV="1" rot="5400000">
              <a:off x="4678920" y="-3882240"/>
              <a:ext cx="78840" cy="849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6"/>
            <p:cNvSpPr/>
            <p:nvPr/>
          </p:nvSpPr>
          <p:spPr>
            <a:xfrm flipV="1" rot="5400000">
              <a:off x="4564080" y="-4124160"/>
              <a:ext cx="80640" cy="87073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3200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TUDIO FERRAJ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4803-F437-4FA2-AF78-0D2A9DE867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79280" y="692280"/>
            <a:ext cx="215640" cy="6165360"/>
            <a:chOff x="179280" y="692280"/>
            <a:chExt cx="215640" cy="6165360"/>
          </a:xfrm>
        </p:grpSpPr>
        <p:sp>
          <p:nvSpPr>
            <p:cNvPr id="54" name="Rectangle 3"/>
            <p:cNvSpPr/>
            <p:nvPr/>
          </p:nvSpPr>
          <p:spPr>
            <a:xfrm flipH="1">
              <a:off x="314280" y="717840"/>
              <a:ext cx="80640" cy="61398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9280" y="692280"/>
              <a:ext cx="81000" cy="5930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8748360" y="691560"/>
            <a:ext cx="216000" cy="5616720"/>
            <a:chOff x="8748360" y="691560"/>
            <a:chExt cx="216000" cy="5616720"/>
          </a:xfrm>
        </p:grpSpPr>
        <p:sp>
          <p:nvSpPr>
            <p:cNvPr id="57" name="Rectangle 6"/>
            <p:cNvSpPr/>
            <p:nvPr/>
          </p:nvSpPr>
          <p:spPr>
            <a:xfrm flipH="1" flipV="1" rot="10800000">
              <a:off x="8890200" y="691200"/>
              <a:ext cx="74160" cy="55494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 flipV="1" rot="10800000">
              <a:off x="8748360" y="834120"/>
              <a:ext cx="84600" cy="5474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324000" y="6452640"/>
            <a:ext cx="8496000" cy="216360"/>
            <a:chOff x="324000" y="6452640"/>
            <a:chExt cx="8496000" cy="216360"/>
          </a:xfrm>
        </p:grpSpPr>
        <p:sp>
          <p:nvSpPr>
            <p:cNvPr id="60" name="Rectangle 9"/>
            <p:cNvSpPr/>
            <p:nvPr/>
          </p:nvSpPr>
          <p:spPr>
            <a:xfrm flipV="1" rot="5400000">
              <a:off x="4536000" y="2239920"/>
              <a:ext cx="71640" cy="84960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 flipV="1" rot="5400000">
              <a:off x="4444920" y="2475720"/>
              <a:ext cx="72000" cy="8314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4"/>
          <p:cNvGrpSpPr/>
          <p:nvPr/>
        </p:nvGrpSpPr>
        <p:grpSpPr>
          <a:xfrm>
            <a:off x="250920" y="549360"/>
            <a:ext cx="8713440" cy="214560"/>
            <a:chOff x="250920" y="549360"/>
            <a:chExt cx="8713440" cy="214560"/>
          </a:xfrm>
        </p:grpSpPr>
        <p:sp>
          <p:nvSpPr>
            <p:cNvPr id="63" name="Rectangle 15"/>
            <p:cNvSpPr/>
            <p:nvPr/>
          </p:nvSpPr>
          <p:spPr>
            <a:xfrm flipV="1" rot="5400000">
              <a:off x="4678920" y="-3521880"/>
              <a:ext cx="78840" cy="849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 flipV="1" rot="5400000">
              <a:off x="4564080" y="-3763800"/>
              <a:ext cx="80640" cy="87073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1280" y="115920"/>
          <a:ext cx="2448000" cy="39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15920"/>
                    <a:ext cx="2448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21" descr="ISO9001-2008_ita_bw"/>
          <p:cNvPicPr/>
          <p:nvPr/>
        </p:nvPicPr>
        <p:blipFill>
          <a:blip r:embed="rId4"/>
          <a:stretch/>
        </p:blipFill>
        <p:spPr>
          <a:xfrm>
            <a:off x="7164360" y="115920"/>
            <a:ext cx="10810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1620000"/>
            <a:ext cx="91440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 E DEL FONDO PATRIMONIA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vv. Dott. Luigi Ferra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124000" y="4653000"/>
            <a:ext cx="487692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24121 B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RGAMO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 - V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A. L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OCATELLI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, 25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TEL (+39) 035 271060   FAX (+39) 035 2700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25121 BRESCIA  - V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SOLFERINO, 28B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TEL (+39) 030 3758566   FAX (+39) 030 37536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info@studioferrajoli.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3a669c"/>
                </a:solidFill>
                <a:latin typeface="Times New Roman"/>
              </a:rPr>
              <a:t>www.studioferrajoli.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Studio Ferrajoli"/>
          <p:cNvPicPr/>
          <p:nvPr/>
        </p:nvPicPr>
        <p:blipFill>
          <a:blip r:embed="rId1"/>
          <a:stretch/>
        </p:blipFill>
        <p:spPr>
          <a:xfrm>
            <a:off x="2971800" y="4114800"/>
            <a:ext cx="3270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IN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143000" y="210600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L’atto istitutivo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del trust che non contempli anche il trasferimento di beni, se redatto con atto pubblico e con scrittura privata autenticata, è assoggettato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all'imposta di registro in misura fissa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, quale atto privo di contenuto patrimon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Secondo l’Agenzia delle Entrate le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imposte ipotecarie e catastali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si applicano nella misura proporzionale del 2% e dell’1% al momento della costituzione del vincolo su beni immobili o diritti reali immobiliari, al momento dello scioglimento del vincolo, nonché su tutti i trasferimenti effettuati durante il vinc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IN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43000" y="160560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econdo l’Agenzia delle Entrate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l’atto dispositivo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con cui il disponente conferisce i beni in trust è assoggettabile all’imposta sulle successioni e donazioni reintrodotta dall’art. 2 d.l. 262/2006 con le seguenti aliquote e franchig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3124080"/>
          <a:ext cx="8076960" cy="2468520"/>
        </p:xfrm>
        <a:graphic>
          <a:graphicData uri="http://schemas.openxmlformats.org/drawingml/2006/table">
            <a:tbl>
              <a:tblPr/>
              <a:tblGrid>
                <a:gridCol w="1447560"/>
                <a:gridCol w="1295640"/>
                <a:gridCol w="1143000"/>
                <a:gridCol w="1981080"/>
                <a:gridCol w="1295280"/>
                <a:gridCol w="914400"/>
              </a:tblGrid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Relazione intercorrente tra disponente  e benefici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Coniug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Parenti in linea   ret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Fratelli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Sorel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Altri parenti fino al 4 grad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- Affini in linea rett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Tahoma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Affini in linea collaterale fino al 3 gra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Portatori di handicap ai sensi della L. 104/9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Altri soggett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Aliqu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4%, 6%, 8% a seconda del rapporto di parent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Franchi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Un milione di euro ciasc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100 mila euro ciasc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Nessuna franchi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Franchigia di 1.500.000 euro ciasc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1f497d"/>
                          </a:solidFill>
                          <a:latin typeface="Tahoma"/>
                          <a:ea typeface="Arial"/>
                        </a:rPr>
                        <a:t>Nessuna franchi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295280" y="2046600"/>
            <a:ext cx="70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Con la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Legge finanziaria 2007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viene introdotta per la prima volta nel nostro ordinamento una disciplina fiscale specifica per l’istituto del trust riguardante la sola imposizione diret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PUNTI ESSENZI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a) la soggettività passiva del trust ai fini IRES (art. 1, comma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b) l’imputazione dei redditi conseguiti dal trust ai beneficiari individuati (art. 1, comma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c) la qualificazione come redditi di capitale dei redditi imputati al beneficiario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Arial"/>
              </a:rPr>
              <a:t>del trust (art. 1, comma 7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d) l’obbligo della tenuta delle scritture contabili per i trust, abbiano o meno per oggetto esclusivo o principale l’esercizio di attività commerciali (art. 1, comma 7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295280" y="1894320"/>
            <a:ext cx="70866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L’art. 73 comma 1 del Tuir fa rientrare il trust nei soggetti passivi 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Ai fini della imposizione dei redditi, si individuano due principali tipologie di tru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1) i trust con beneficiari individuati, i cui redditi vengono imputati per trasparenza ai beneficiari stessi (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trust trasparenti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2) i trust senza beneficiari individuati, i cui redditi vengono tassati direttamente in capo al trust (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trust opachi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ヒラギノ角ゴ Pro W3"/>
              </a:rPr>
              <a:t>I redditi imputati ai beneficiari per trasparenza sono considerati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ヒラギノ角ゴ Pro W3"/>
              </a:rPr>
              <a:t>redditi di capitale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ヒラギノ角ゴ Pro W3"/>
              </a:rPr>
              <a:t>, per effetto dell’inserimento della lettera g-sexies) al comma 1 dell’art. 44 del Tu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143000" y="183240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l trust è soggetto ad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adempimenti fiscali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e de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presentare annualmente la dichiarazione dei redditi, anche se è traspar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- acquisire un proprio codice fisc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ottenere partita Iva qualora eserciti un attività di tipo commerci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tenere le scritture contabili ex art. 13 d.p.r. 600/197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Per individuare la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residenza fiscale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del trust si applicano in linea generale i principi di cui all’art. 73, comma 3 del Tuir (sede legale, sede dell’amministrazione o oggetto principale dell’attività siti in Ital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143000" y="226080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ヒラギノ角ゴ Pro W3"/>
              </a:rPr>
              <a:t>I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trust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 istituiti nei Paesi cosiddetti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black list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, ovvero che non consentano lo scambio di informazioni con l’Italia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si presumono residenti in Italia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 se presentano uno dei seguenti requisi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residenza fiscale in Italia di almeno uno dei disponenti ed almeno uno dei beneficia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  <a:ea typeface="Arial"/>
              </a:rPr>
              <a:t>attribuzione al trust, dopo la sua costituzione, di un titolo che comporti il trasferimento di proprietà di beni immobili o la costituzione o il trasferimento di diritti reali immobiliari, anche per quote, nonché vincoli di destinazione sugli stessi, se tale attribuzione è fatta ad opera di un soggetto residente in It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TRUST E QUADRO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143000" y="183240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L’art. 9 legge n. 97/2013 ha modificato il d.l. n. 167/1990 prevedendo, a carico dei contribuenti persone fisiche, società semplici ed enti non commerciali, compresi i trust, l’obbligo di dichiarare gli investimenti e le attività detenute all’estero sia quale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diretti possessori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ia quale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titolari effettivi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ai sensi del d.lgs. 231/200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i considerano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titolari effettivi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- le persone fisiche beneficiarie del 25% o più del patrimoni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n caso di trust con beneficiari effettivi non ancora determinati, la categoria di persone nel cui interesse principale è istituita l’entità giuridic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la persona fisica o le persone fisiche che esercitano un controllo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ul 25% o più del patrimonio di un’entità giurid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TRUST E QUADRO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143000" y="1814040"/>
            <a:ext cx="708660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Trust resid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e il beneficiario è titolare effettivo deve indicare nel proprio quadro RW il valore delle attività estere, nonché la percentuale di patrimonio ad egli riconducibi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e il beneficiario non è titolare effettivo gli obblighi di monitoraggio delle attività estere ricadono sul trust, che dovrà inserire tali attività nel proprio quadro R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Trust est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e il beneficiario è titolare effettivo deve indicare nel proprio quadro RW la totalità delle attività detenute all’estero dal tru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se il beneficiario non è titolare effettivo dovrà inserire nel proprio quadro RW il valore della quota di patrimonio del trust ad esso riferi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rumenti_tutela_patrimonio_1"/>
          <p:cNvPicPr/>
          <p:nvPr/>
        </p:nvPicPr>
        <p:blipFill>
          <a:blip r:embed="rId1"/>
          <a:stretch/>
        </p:blipFill>
        <p:spPr>
          <a:xfrm>
            <a:off x="2700360" y="981000"/>
            <a:ext cx="3724200" cy="525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trumenti_tutela_patrimonio_4"/>
          <p:cNvPicPr/>
          <p:nvPr/>
        </p:nvPicPr>
        <p:blipFill>
          <a:blip r:embed="rId1"/>
          <a:stretch/>
        </p:blipFill>
        <p:spPr>
          <a:xfrm>
            <a:off x="2700360" y="981000"/>
            <a:ext cx="3724200" cy="525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223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669c"/>
                </a:solidFill>
                <a:latin typeface="Tahoma"/>
                <a:ea typeface="Times New Roman"/>
              </a:rPr>
              <a:t>IL FONDO PATRIMON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90720" y="838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FONDO PATRIMONIALE: LE IMPOSTE IN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143000" y="1794240"/>
            <a:ext cx="708660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Se l’atto di costituzione del fondo patrimoniale ha per oggetto </a:t>
            </a:r>
            <a:r>
              <a:rPr b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beni immobili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ma è </a:t>
            </a:r>
            <a:r>
              <a:rPr b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privo di effetti traslativi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sono dov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- l’imposta di bollo per € 155,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’imposta di registro in misura fis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’imposta ipotecaria in misura fi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Se si verificano </a:t>
            </a:r>
            <a:r>
              <a:rPr b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effetti traslativi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sono dov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- l’imposta di bollo per € 230,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’imposta sulle successioni e donazio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’imposta ipotecaria nella misura del 2%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- l’impopsta catastale nella misura dell’1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990720" y="838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FONDO PATRIMONIALE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143000" y="23641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e </a:t>
            </a:r>
            <a:r>
              <a:rPr b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tipologie di reddito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derivanti dai beni conferiti in fondo patrimoniale possono ess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 redditi fondiari (art. 25 tuir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 redditi dominicali (art. 27 tuir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 redditi da fabbricati (art. 37 tui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a669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i redditi diversi (art. 67 tuir quali le plusvalenze realizzate mediante cessione a titolo oneroso di beni immobili acquistati o costruiti da non più di cinque ann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90720" y="838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FONDO PATRIMONIALE: LE 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43000" y="1907640"/>
            <a:ext cx="70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L’articolo 4 comma 1, lett. b) del d.p.r. 917/1986 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prevede ch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I </a:t>
            </a:r>
            <a:r>
              <a:rPr b="1" i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redditi</a:t>
            </a:r>
            <a:r>
              <a:rPr b="0" i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 dei beni che formano oggetto del fondo patrimoniale di cui agli artt. 167 e seguenti del c.c. </a:t>
            </a:r>
            <a:r>
              <a:rPr b="1" i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sono imputati per metà del loro ammontare netto a ciascuno dei coniugi</a:t>
            </a:r>
            <a:r>
              <a:rPr b="0" i="1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. Nelle ipotesi previste dall’art. 171 del c.c. i redditi dei beni che rimangono destinati al fondo sono imputati per l’intero ammontare al coniuge superstite o al coniuge cui sia stata esclusivamente attribuita l’amministrazione del fondo</a:t>
            </a:r>
            <a:r>
              <a:rPr b="0" lang="en-US" sz="1800" spc="-1" strike="noStrike">
                <a:solidFill>
                  <a:srgbClr val="3a669c"/>
                </a:solidFill>
                <a:latin typeface="Tahoma"/>
                <a:ea typeface="Times New Roman"/>
              </a:rPr>
              <a:t>”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Tale principio si applica anche se il fondo patrimoniale è stato istituito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sul bene di un terzo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che se ne sia riservato la proprietà posto che l’art. 168 C.C. dispone: </a:t>
            </a:r>
            <a:r>
              <a:rPr b="0" i="1" lang="it-IT" sz="1800" spc="-1" strike="noStrike">
                <a:solidFill>
                  <a:srgbClr val="3a669c"/>
                </a:solidFill>
                <a:latin typeface="Tahoma"/>
              </a:rPr>
              <a:t>“i frutti dei beni costituenti il fondo patrimoniale sono impiegati per i bisogni della famigli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23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669c"/>
                </a:solidFill>
                <a:latin typeface="Tahoma"/>
                <a:ea typeface="Times New Roman"/>
              </a:rPr>
              <a:t>IL 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90720" y="991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669c"/>
                </a:solidFill>
                <a:latin typeface="Tahoma"/>
                <a:ea typeface="Times New Roman"/>
              </a:rPr>
              <a:t>ASPETTI FISCALI DEL TRUST: LE IMPOSTE IN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141800" y="557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441680" y="39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143000" y="1969560"/>
            <a:ext cx="70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Ai fini dell’applicazione delle </a:t>
            </a:r>
            <a:r>
              <a:rPr b="1" lang="it-IT" sz="1800" spc="-1" strike="noStrike">
                <a:solidFill>
                  <a:srgbClr val="3a669c"/>
                </a:solidFill>
                <a:latin typeface="Tahoma"/>
              </a:rPr>
              <a:t>imposte indirette </a:t>
            </a: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è possibile individuare nel corso dell’esistenza del trust sei momenti rilevanti, necessari o eventual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1. l’atto istitutiv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2. l’atto o gli atti dispositiv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3. eventuali operazioni compiute durante la vita del trust (atti gestori compiuti dal truste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4. il trasferimento di beni del trust in seguito alla sostituzione o alla successione del truste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5. il trasferimento dei beni ai beneficiar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a669c"/>
                </a:solidFill>
                <a:latin typeface="Tahoma"/>
              </a:rPr>
              <a:t>6. la cessione da parte dei beneficiari dei loro interessi (diritti o aspettative) nel tru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6:11:46Z</dcterms:created>
  <dc:creator>+..</dc:creator>
  <dc:description/>
  <dc:language>en-US</dc:language>
  <cp:lastModifiedBy>Marta Grimoldi Bruni</cp:lastModifiedBy>
  <cp:lastPrinted>2014-10-14T05:39:58Z</cp:lastPrinted>
  <dcterms:modified xsi:type="dcterms:W3CDTF">2014-10-14T05:42:27Z</dcterms:modified>
  <cp:revision>1253</cp:revision>
  <dc:subject/>
  <dc:title>Presentazione di PowerPoint</dc:title>
</cp:coreProperties>
</file>